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20FFC-D0F8-47A1-8E33-14E9118B6F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4CBD6-451A-4CA6-B0B6-966C9654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70E9B-7DDC-43DC-B620-F8D9F370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B843-5098-43CA-9D0E-7CB92C5EC6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7E204-3B2E-4989-9812-667AF4C2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B2D29-65FB-4CEE-A420-BE5E3E92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F617A-1C7E-4728-9489-17E2BE2B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C9129-28CB-4636-9BA5-CE25B605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1928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FD2B5-892B-43AD-AFF7-CC1596B4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F0105-9947-43C7-87A8-677815E8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379C4-72AA-4483-9607-1C5A83E9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EAF77-D5D9-4D62-9FAC-A0B3A8A1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3256-5853-4D3A-801A-11D85A198A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-1440" y="52560"/>
            <a:ext cx="720720" cy="431640"/>
            <a:chOff x="-1440" y="52560"/>
            <a:chExt cx="720720" cy="431640"/>
          </a:xfrm>
        </p:grpSpPr>
        <p:sp>
          <p:nvSpPr>
            <p:cNvPr id="45" name=""/>
            <p:cNvSpPr/>
            <p:nvPr/>
          </p:nvSpPr>
          <p:spPr>
            <a:xfrm>
              <a:off x="4320" y="52560"/>
              <a:ext cx="714960" cy="25164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45" y="18"/>
                  </a:moveTo>
                  <a:lnTo>
                    <a:pt x="55" y="23"/>
                  </a:lnTo>
                  <a:cubicBezTo>
                    <a:pt x="60" y="24"/>
                    <a:pt x="65" y="27"/>
                    <a:pt x="69" y="29"/>
                  </a:cubicBezTo>
                  <a:cubicBezTo>
                    <a:pt x="79" y="43"/>
                    <a:pt x="83" y="49"/>
                    <a:pt x="99" y="41"/>
                  </a:cubicBezTo>
                  <a:cubicBezTo>
                    <a:pt x="106" y="36"/>
                    <a:pt x="113" y="31"/>
                    <a:pt x="121" y="26"/>
                  </a:cubicBezTo>
                  <a:cubicBezTo>
                    <a:pt x="121" y="25"/>
                    <a:pt x="121" y="23"/>
                    <a:pt x="121" y="22"/>
                  </a:cubicBezTo>
                  <a:cubicBezTo>
                    <a:pt x="114" y="26"/>
                    <a:pt x="107" y="30"/>
                    <a:pt x="100" y="34"/>
                  </a:cubicBezTo>
                  <a:cubicBezTo>
                    <a:pt x="98" y="35"/>
                    <a:pt x="96" y="35"/>
                    <a:pt x="94" y="34"/>
                  </a:cubicBezTo>
                  <a:cubicBezTo>
                    <a:pt x="87" y="24"/>
                    <a:pt x="81" y="14"/>
                    <a:pt x="74" y="5"/>
                  </a:cubicBezTo>
                  <a:cubicBezTo>
                    <a:pt x="67" y="0"/>
                    <a:pt x="65" y="0"/>
                    <a:pt x="57" y="3"/>
                  </a:cubicBezTo>
                  <a:cubicBezTo>
                    <a:pt x="38" y="15"/>
                    <a:pt x="19" y="27"/>
                    <a:pt x="0" y="39"/>
                  </a:cubicBezTo>
                  <a:cubicBezTo>
                    <a:pt x="0" y="41"/>
                    <a:pt x="0" y="42"/>
                    <a:pt x="0" y="44"/>
                  </a:cubicBezTo>
                  <a:cubicBezTo>
                    <a:pt x="20" y="31"/>
                    <a:pt x="20" y="31"/>
                    <a:pt x="52" y="12"/>
                  </a:cubicBezTo>
                  <a:cubicBezTo>
                    <a:pt x="57" y="12"/>
                    <a:pt x="58" y="13"/>
                    <a:pt x="61" y="17"/>
                  </a:cubicBezTo>
                  <a:cubicBezTo>
                    <a:pt x="61" y="17"/>
                    <a:pt x="61" y="18"/>
                    <a:pt x="60" y="18"/>
                  </a:cubicBezTo>
                  <a:cubicBezTo>
                    <a:pt x="55" y="17"/>
                    <a:pt x="51" y="17"/>
                    <a:pt x="45" y="18"/>
                  </a:cubicBezTo>
                  <a:close/>
                </a:path>
              </a:pathLst>
            </a:custGeom>
            <a:solidFill>
              <a:srgbClr val="52a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440" y="150120"/>
              <a:ext cx="720720" cy="241200"/>
            </a:xfrm>
            <a:custGeom>
              <a:avLst/>
              <a:gdLst/>
              <a:ahLst/>
              <a:rect l="l" t="t" r="r" b="b"/>
              <a:pathLst>
                <a:path w="122" h="47">
                  <a:moveTo>
                    <a:pt x="56" y="3"/>
                  </a:moveTo>
                  <a:lnTo>
                    <a:pt x="54" y="1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6" y="0"/>
                  </a:lnTo>
                  <a:cubicBezTo>
                    <a:pt x="31" y="10"/>
                    <a:pt x="15" y="20"/>
                    <a:pt x="0" y="30"/>
                  </a:cubicBezTo>
                  <a:cubicBezTo>
                    <a:pt x="0" y="32"/>
                    <a:pt x="0" y="34"/>
                    <a:pt x="0" y="35"/>
                  </a:cubicBezTo>
                  <a:cubicBezTo>
                    <a:pt x="12" y="28"/>
                    <a:pt x="24" y="20"/>
                    <a:pt x="36" y="13"/>
                  </a:cubicBezTo>
                  <a:cubicBezTo>
                    <a:pt x="37" y="12"/>
                    <a:pt x="38" y="12"/>
                    <a:pt x="40" y="13"/>
                  </a:cubicBezTo>
                  <a:cubicBezTo>
                    <a:pt x="52" y="23"/>
                    <a:pt x="54" y="40"/>
                    <a:pt x="70" y="46"/>
                  </a:cubicBezTo>
                  <a:cubicBezTo>
                    <a:pt x="73" y="47"/>
                    <a:pt x="75" y="46"/>
                    <a:pt x="77" y="45"/>
                  </a:cubicBezTo>
                  <a:cubicBezTo>
                    <a:pt x="93" y="37"/>
                    <a:pt x="107" y="26"/>
                    <a:pt x="122" y="16"/>
                  </a:cubicBezTo>
                  <a:cubicBezTo>
                    <a:pt x="122" y="15"/>
                    <a:pt x="122" y="13"/>
                    <a:pt x="122" y="11"/>
                  </a:cubicBezTo>
                  <a:cubicBezTo>
                    <a:pt x="108" y="18"/>
                    <a:pt x="96" y="29"/>
                    <a:pt x="82" y="35"/>
                  </a:cubicBezTo>
                  <a:cubicBezTo>
                    <a:pt x="80" y="36"/>
                    <a:pt x="79" y="36"/>
                    <a:pt x="78" y="35"/>
                  </a:cubicBezTo>
                  <a:cubicBezTo>
                    <a:pt x="72" y="25"/>
                    <a:pt x="65" y="15"/>
                    <a:pt x="59" y="6"/>
                  </a:cubicBezTo>
                  <a:cubicBezTo>
                    <a:pt x="58" y="6"/>
                    <a:pt x="58" y="5"/>
                    <a:pt x="58" y="5"/>
                  </a:cubicBezTo>
                  <a:cubicBezTo>
                    <a:pt x="58" y="5"/>
                    <a:pt x="56" y="3"/>
                    <a:pt x="56" y="3"/>
                  </a:cubicBezTo>
                  <a:close/>
                </a:path>
              </a:pathLst>
            </a:custGeom>
            <a:solidFill>
              <a:srgbClr val="008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1440" y="242640"/>
              <a:ext cx="720720" cy="241560"/>
            </a:xfrm>
            <a:custGeom>
              <a:avLst/>
              <a:gdLst/>
              <a:ahLst/>
              <a:rect l="l" t="t" r="r" b="b"/>
              <a:pathLst>
                <a:path w="122" h="47">
                  <a:moveTo>
                    <a:pt x="54" y="45"/>
                  </a:moveTo>
                  <a:cubicBezTo>
                    <a:pt x="51" y="43"/>
                    <a:pt x="49" y="42"/>
                    <a:pt x="47" y="40"/>
                  </a:cubicBezTo>
                  <a:cubicBezTo>
                    <a:pt x="37" y="26"/>
                    <a:pt x="26" y="19"/>
                    <a:pt x="9" y="24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1" y="21"/>
                    <a:pt x="14" y="20"/>
                    <a:pt x="16" y="18"/>
                  </a:cubicBezTo>
                  <a:cubicBezTo>
                    <a:pt x="19" y="17"/>
                    <a:pt x="28" y="17"/>
                    <a:pt x="31" y="18"/>
                  </a:cubicBezTo>
                  <a:cubicBezTo>
                    <a:pt x="28" y="14"/>
                    <a:pt x="28" y="13"/>
                    <a:pt x="22" y="13"/>
                  </a:cubicBezTo>
                  <a:cubicBezTo>
                    <a:pt x="15" y="17"/>
                    <a:pt x="8" y="21"/>
                    <a:pt x="0" y="26"/>
                  </a:cubicBezTo>
                  <a:cubicBezTo>
                    <a:pt x="0" y="24"/>
                    <a:pt x="1" y="22"/>
                    <a:pt x="1" y="20"/>
                  </a:cubicBezTo>
                  <a:cubicBezTo>
                    <a:pt x="10" y="14"/>
                    <a:pt x="19" y="8"/>
                    <a:pt x="28" y="3"/>
                  </a:cubicBezTo>
                  <a:cubicBezTo>
                    <a:pt x="36" y="0"/>
                    <a:pt x="37" y="1"/>
                    <a:pt x="45" y="5"/>
                  </a:cubicBezTo>
                  <a:cubicBezTo>
                    <a:pt x="51" y="14"/>
                    <a:pt x="58" y="24"/>
                    <a:pt x="65" y="34"/>
                  </a:cubicBezTo>
                  <a:cubicBezTo>
                    <a:pt x="66" y="35"/>
                    <a:pt x="67" y="35"/>
                    <a:pt x="71" y="34"/>
                  </a:cubicBezTo>
                  <a:cubicBezTo>
                    <a:pt x="121" y="3"/>
                    <a:pt x="121" y="3"/>
                    <a:pt x="122" y="2"/>
                  </a:cubicBezTo>
                  <a:cubicBezTo>
                    <a:pt x="122" y="5"/>
                    <a:pt x="122" y="7"/>
                    <a:pt x="122" y="9"/>
                  </a:cubicBezTo>
                  <a:cubicBezTo>
                    <a:pt x="106" y="18"/>
                    <a:pt x="106" y="18"/>
                    <a:pt x="68" y="42"/>
                  </a:cubicBezTo>
                  <a:cubicBezTo>
                    <a:pt x="63" y="46"/>
                    <a:pt x="60" y="47"/>
                    <a:pt x="54" y="45"/>
                  </a:cubicBezTo>
                  <a:close/>
                </a:path>
              </a:pathLst>
            </a:custGeom>
            <a:solidFill>
              <a:srgbClr val="194b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28720" y="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71640" y="476280"/>
            <a:ext cx="174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GÊNCIA NACIONAL DE ÁGU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8000" y="2881080"/>
            <a:ext cx="121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482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COMISSÃO DE ACOMPANHAMENTO DOS CONTRATOS DE GEST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36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ATO DE GESTÃO ANA AGEV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62280" y="1104840"/>
            <a:ext cx="48006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E PRODUTOS PARA A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8120" y="3886200"/>
            <a:ext cx="72396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23814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TOS IMPORT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33400" y="3352680"/>
            <a:ext cx="546768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UBLICAÇÃO SOBRE A SITUAÇÃO DA BA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RELATÓRIO COM SUBSÍDIOS À REGUL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ANUAL DE INVESTI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PERIÓDICA DA COBRANÇ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62040" y="182880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4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162920" cy="81900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219320"/>
            <a:ext cx="53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O PROGRAMA DE TRABAL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758960"/>
            <a:ext cx="914400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47880" y="781200"/>
            <a:ext cx="6458040" cy="101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LENDÁRIO DE TRABAL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VISÃO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2076480"/>
            <a:ext cx="4591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03 – 1ª Reunião – Texto + conce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/04 – 2ª Reunião – Texto + 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0/05 – Avaliação AGEVA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25/05 – 3ª Reunião – Fechamento m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6/06 – 4ª Reunião – Fechamento m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5360" y="4552920"/>
            <a:ext cx="72396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01680" y="4815000"/>
            <a:ext cx="6039000" cy="144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19/06 – Conselho Administração AGE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20/06 – Discussão ANA / CT IL CEI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17/07 – Plenária do CEI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29080" y="2933640"/>
            <a:ext cx="445752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É 10/05 – APRECIAÇÃO DIRE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2482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COMISSÃO DE ACOMPANHAMENTO DOS CONTRATOS DE GEST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36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RIG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243080"/>
            <a:ext cx="9144000" cy="56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67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ÊNCIA E COBRANÇ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38760" y="2570040"/>
            <a:ext cx="4038480" cy="2819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3080" y="2495520"/>
            <a:ext cx="4267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ÍCIO ATIVIDADES 1° SET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3 –  5,9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5,4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4 –  6,3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,6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5 –  5,9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,2 REPAS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6 –  3,4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,5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OVAÇÃO ATÉ 30 JUNHO 2016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PROCES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3257640"/>
            <a:ext cx="352440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LANO DE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SISTEMA DE INFORMAÇÕ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VESTI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DMINISTRAÇÃO INTER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43360" y="23623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3800" y="3168720"/>
            <a:ext cx="1486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0     2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7,6   8,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    7,6    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10   1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16760" y="234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97720" y="3137040"/>
            <a:ext cx="2546280" cy="287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LANO EM REVIS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STEMA NO SI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EFICI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257640"/>
            <a:ext cx="398160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ADASTRO DE USUÁ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ONTRATAÇÃO DE OB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PLICAÇÃO RECUR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SUSTENTABILIDADE FINANC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43360" y="23623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3800" y="316872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0    N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Font typeface="Arial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 2,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,9   6,6   8,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 10    1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34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92760" y="3137040"/>
            <a:ext cx="2451240" cy="287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CONSIDE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A C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TENDI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EFETIV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3619440"/>
            <a:ext cx="3086280" cy="2037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VISIBIL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ARCE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43360" y="23623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71960" y="3606840"/>
            <a:ext cx="163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,3    7,9   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,3    9,5   7,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3,8    3,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16760" y="234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93080" y="3594240"/>
            <a:ext cx="1650960" cy="203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U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62280" y="1104840"/>
            <a:ext cx="4800600" cy="1202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° DE JULHO DE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30 DE JUNHO DE 20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1800" y="291456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CG - 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7680" y="3962520"/>
            <a:ext cx="3181320" cy="2037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JOÃO LUIZ - S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ARLY TERRELL - SP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ILTON CESÁRIO - A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ATRICK - S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WILDE - S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292104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35440" y="3602160"/>
            <a:ext cx="4952880" cy="32889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ANDREA FRANCOMANO – CA/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APARECIDA VARGAS – SEC EXECU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HELOISE BRANT – CA/IG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HENDRIK MANSUR – COORD.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JOÃO JERÔNIMO - DIRE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MARILENE RAMOS – CA/SER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PATRÍCIA BOSON – CA/FIEM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ELIANE BARBOSA - AGE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62000" y="245736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QUIPE DE NEGOCI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120" y="-360"/>
            <a:ext cx="74674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314360"/>
            <a:ext cx="82486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DEFINIÇÃO OBJETIVA DE ATRIBUIÇÕES DA AGEV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52520" y="3733920"/>
            <a:ext cx="645804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RANTIA DE TÉRMINO DE CONTRATOS PELA 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4857840"/>
            <a:ext cx="579132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RROGAÇÃO ATÉ 20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62080" y="6338880"/>
            <a:ext cx="742932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SE MENSAL SEM CRONO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0280" y="302904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IRADA LIMITAÇÃO SALARIAL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2197080"/>
            <a:ext cx="78674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ÇÃO OBJETIVA DAS ATRIBUIÇÕES DA 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73080" y="55688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BRICA ÚNICA PARA O REPAS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257960" cy="81900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A EFICIÊNCIA E DA EFETIV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00240" y="190512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4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11400" y="2376360"/>
            <a:ext cx="5535720" cy="44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A EFICIÊNCIA E DA EFETIV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886200"/>
            <a:ext cx="53352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ÉRIOS PARA EFICI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6720" y="2933640"/>
            <a:ext cx="4495680" cy="370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FORMAÇÕES DISPONÍ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FORMAÇÕES ATUALIZ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TEMPO DE APLICAÇÃO R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R$ COBRANÇA / R$ CONTRAPAR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ONTUALIDADE CONTRA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67360" y="23875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ÉRIOS PARA EFETIV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67320" y="2959200"/>
            <a:ext cx="3676680" cy="1202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ONSULTAS À PÁG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PELO COMIT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00240" y="190512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4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25:47Z</dcterms:created>
  <dc:creator>Bolivar Antunes Matos</dc:creator>
  <dc:description/>
  <dc:language>en-US</dc:language>
  <cp:lastModifiedBy>wilde</cp:lastModifiedBy>
  <dcterms:modified xsi:type="dcterms:W3CDTF">2006-07-15T13:52:20Z</dcterms:modified>
  <cp:revision>822</cp:revision>
  <dc:subject>Apresentação do Dr. Oscar Cordeiro Netto</dc:subject>
  <dc:title>Água: um problema de segurança aliment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2435130</vt:r8>
  </property>
  <property fmtid="{D5CDD505-2E9C-101B-9397-08002B2CF9AE}" pid="3" name="_AuthorEmail">
    <vt:lpwstr>flavia.barros@ana.gov.br</vt:lpwstr>
  </property>
  <property fmtid="{D5CDD505-2E9C-101B-9397-08002B2CF9AE}" pid="4" name="_AuthorEmailDisplayName">
    <vt:lpwstr>Flavia Gomes de Barros</vt:lpwstr>
  </property>
  <property fmtid="{D5CDD505-2E9C-101B-9397-08002B2CF9AE}" pid="5" name="_EmailSubject">
    <vt:lpwstr>apresentação</vt:lpwstr>
  </property>
  <property fmtid="{D5CDD505-2E9C-101B-9397-08002B2CF9AE}" pid="6" name="_PreviousAdHocReviewCycleID">
    <vt:r8>376229889</vt:r8>
  </property>
  <property fmtid="{D5CDD505-2E9C-101B-9397-08002B2CF9AE}" pid="7" name="_ReviewingToolsShownOnce">
    <vt:lpwstr/>
  </property>
</Properties>
</file>